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BB642-9B65-4232-80B8-FD711327AE2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C965E-1A4E-4CFE-B981-C039CF3AD95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638B7-38B7-4C6D-AA24-25436478558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DF0D0-A572-48F2-8881-47CFD9D5DC0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07F69-D82F-4F00-ACD6-69DFFB3A880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27296-1A6D-49BF-A1F5-1CA0FEB3768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242BB-4F47-4C86-97F5-94611C8ABC8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E1504-B771-4D4A-B6C7-B252B6C720D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5415F-0FF1-4637-A2B8-B5BA7E04253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984D8-49DA-4C4B-965C-D89DE02A35B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3B193-C898-4DD5-8040-8CF76F42526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441F8-6703-4A89-A397-10E8D2ED929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CACF9-2540-4614-AB0F-5D9915DB73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49A89-3214-4C6E-9B7F-2BD15D950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FB38D-0290-41D6-842D-FBEF8F93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CC494-709A-4F9D-A0CF-5C6D4D637E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9D0E3-DE7F-4F0D-87E0-D33934268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2866-B71A-4741-8AFB-5C9578C152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013F-E48A-4A3A-8AB0-DE267BF88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81C5-8054-4CCE-AAD1-E7E1323E5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07D1-0F7E-4875-B9DF-774636E61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07F3-C031-42F8-A3C6-79621A349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C24F3-7D0E-41E1-9EFA-21551A964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EC50-742F-4447-9D9B-2CAC6D731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A3EC-B3B9-498B-A8AE-919ED2F0D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B4E5-F940-45AE-8649-F3B59F27A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FE10-B53C-40AF-AD69-52DA893B0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2479-970E-49E4-A3A3-480700B8E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1BA6-FC50-48B1-A575-0A66C53F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E099-C397-4D8B-9C09-038831CB71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F8961-BB42-457A-9691-7900A4803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96181-7ACB-4827-82EB-16D65F57F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9DC86-B0F6-4617-952A-8570F64DF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EE431-8917-4E63-9D4A-80AD9BFEC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A8FEB-7BD1-4740-974F-07BD3B641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A7A23-D466-4341-BE40-690C2BED1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505320" y="6576840"/>
            <a:ext cx="213336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3BA0A-1CEB-4231-9EA3-491882D4D60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Num" idx="3"/>
          </p:nvPr>
        </p:nvSpPr>
        <p:spPr>
          <a:xfrm>
            <a:off x="3634920" y="6530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91A97-EEB4-4425-AAAA-354F66F2B5BE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7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治疗癫痫药和惊厥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2"/>
          <p:cNvSpPr/>
          <p:nvPr/>
        </p:nvSpPr>
        <p:spPr>
          <a:xfrm>
            <a:off x="105444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疗监护须知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228600" y="2349360"/>
            <a:ext cx="868680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妥英钠的有效血药浓度为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10~20 μg/ml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，由于血药浓度个体差异较大，易引起蓄积，应在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临床药物监测下给药，注意剂量的个体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癫痫是慢性疾病，需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长期甚至终身用药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治疗过程中切忌突然停药或更换其他药物；必须换药时，应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采取逐步过渡的方式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妥英钠用药后可出现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红色尿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，应预先告知患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AE8CD-9556-415D-9778-D31175E21672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矩形 2"/>
          <p:cNvSpPr/>
          <p:nvPr/>
        </p:nvSpPr>
        <p:spPr>
          <a:xfrm>
            <a:off x="105444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物相互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228600" y="2349360"/>
            <a:ext cx="868680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妥英钠是肝药酶诱导剂，可使皮质激素、洋地黄类和避孕药等的代谢加快而降低药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巴比妥、卡马西平、安定和乙醇等能够通过肝药酶诱导作用加速苯妥英钠的代谢，降低血药浓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磺胺类、异烟肼、水杨酸类和口服抗凝药等可与苯妥英钠竞争血浆蛋白结合部位，增加游离型血药浓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1B58E-FA91-494B-885B-3BAFCD419EB1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卡马西平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carbamazepine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矩形 4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矩形 5"/>
          <p:cNvSpPr/>
          <p:nvPr/>
        </p:nvSpPr>
        <p:spPr>
          <a:xfrm>
            <a:off x="395280" y="21337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作用与苯妥英钠相似，能阻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通道，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抑制癫痫病灶及其周围神经元的异常放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矩形 6"/>
          <p:cNvSpPr/>
          <p:nvPr/>
        </p:nvSpPr>
        <p:spPr>
          <a:xfrm>
            <a:off x="747000" y="3716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395280" y="4221000"/>
            <a:ext cx="85201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较苯妥英钠抗癫痫作用更为广谱，对精神运动性发作最有效，也可用于对其他药无效的强直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阵挛性发作及部分性发作，对三叉神经痛的疗效优于苯妥英钠。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灯片编号占位符 3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E0BEF-F81D-4F35-8C74-698495300276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卡马西平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carbamazepine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矩形 8"/>
          <p:cNvSpPr/>
          <p:nvPr/>
        </p:nvSpPr>
        <p:spPr>
          <a:xfrm>
            <a:off x="1243440" y="14335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体内过程与用法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214200" y="1989000"/>
            <a:ext cx="86868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口服吸收缓慢且不规则，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6~12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小时血药浓度达高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有效血药浓度为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4~10 μg/ml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用药时从小剂量开始，逐渐增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矩形 12"/>
          <p:cNvSpPr/>
          <p:nvPr/>
        </p:nvSpPr>
        <p:spPr>
          <a:xfrm>
            <a:off x="801720" y="390384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235080" y="4424400"/>
            <a:ext cx="86868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用药早期可出现头昏、眩晕、恶心、呕吐和共济失调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可见皮疹和心血管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偶见粒细胞减少、血小板减少和再生障碍性贫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58694-494A-410F-A7DC-EBBFC95D817E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卡马西平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carbamazepine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矩形 6"/>
          <p:cNvSpPr/>
          <p:nvPr/>
        </p:nvSpPr>
        <p:spPr>
          <a:xfrm>
            <a:off x="1054440" y="1700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疗监护须知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228600" y="2276640"/>
            <a:ext cx="89154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因卡马西平用药初期可出现神经精神症状，故需加强护理，尤其注意观察老年人的临床表现。用药期间定期监测血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矩形 9"/>
          <p:cNvSpPr/>
          <p:nvPr/>
        </p:nvSpPr>
        <p:spPr>
          <a:xfrm>
            <a:off x="1054440" y="37591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物相互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200160" y="4268880"/>
            <a:ext cx="8685000" cy="15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巴比妥、苯妥英钠、扑米酮加快卡马西平代谢，使其血药浓度降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3E729-5EC7-439B-A188-B351BC7E6F6B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巴比妥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obarbital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矩形 8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矩形 10"/>
          <p:cNvSpPr/>
          <p:nvPr/>
        </p:nvSpPr>
        <p:spPr>
          <a:xfrm>
            <a:off x="395280" y="21337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第一个用于抗癫痫的有机化合物。既能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抑制病灶神经元的异常放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亦可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抑制异常放电的扩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矩形 12"/>
          <p:cNvSpPr/>
          <p:nvPr/>
        </p:nvSpPr>
        <p:spPr>
          <a:xfrm>
            <a:off x="747000" y="3716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395280" y="4221000"/>
            <a:ext cx="85201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具有镇静、催眠和抗惊厥作用，临床上主要用于治疗癫痫大发作及癫痫持续状态，对单纯局限性发作及强直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阵挛性发作也有效，对复杂部分性发作及小发作往往无效。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E9E4F-2F10-4A0D-AFB7-795E7BF11D19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8704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苯巴比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phenobarbital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矩形 6"/>
          <p:cNvSpPr/>
          <p:nvPr/>
        </p:nvSpPr>
        <p:spPr>
          <a:xfrm>
            <a:off x="781920" y="14335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214200" y="1989000"/>
            <a:ext cx="86868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常见嗜睡、眩晕和共济失调等神经毒性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可致巨幼红细胞性贫血、白细胞减少和血小板减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少数患者有皮疹、黄疸、高热、粒细胞缺乏等过敏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矩形 9"/>
          <p:cNvSpPr/>
          <p:nvPr/>
        </p:nvSpPr>
        <p:spPr>
          <a:xfrm>
            <a:off x="1143360" y="390384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疗监护须知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235080" y="4424400"/>
            <a:ext cx="86868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本药为镇静催眠药物。用药初期最常见反应为嗜睡、精神萎靡等；偶见中枢兴奋作用，多见于儿童和老年人，故需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加强护理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7B916-FC93-4AD3-98D7-4AD497589658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抗癫痫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矩形 2"/>
          <p:cNvSpPr/>
          <p:nvPr/>
        </p:nvSpPr>
        <p:spPr>
          <a:xfrm>
            <a:off x="568440" y="1628640"/>
            <a:ext cx="24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扑米酮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rimidon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矩形 3"/>
          <p:cNvSpPr/>
          <p:nvPr/>
        </p:nvSpPr>
        <p:spPr>
          <a:xfrm>
            <a:off x="835200" y="2205000"/>
            <a:ext cx="79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主要用于强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阵挛性发作、单纯及复杂部分性发作，与苯妥英钠和卡马西平合用具有协同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矩形 8"/>
          <p:cNvSpPr/>
          <p:nvPr/>
        </p:nvSpPr>
        <p:spPr>
          <a:xfrm>
            <a:off x="570240" y="328464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乙琥胺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thosuximid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矩形 10"/>
          <p:cNvSpPr/>
          <p:nvPr/>
        </p:nvSpPr>
        <p:spPr>
          <a:xfrm>
            <a:off x="835200" y="3860640"/>
            <a:ext cx="79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主要用于小发作，尤其是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失神小发作，是临床治疗的首选药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对肌阵挛及婴儿痉挛也有一定效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矩形 12"/>
          <p:cNvSpPr/>
          <p:nvPr/>
        </p:nvSpPr>
        <p:spPr>
          <a:xfrm>
            <a:off x="633600" y="4941720"/>
            <a:ext cx="353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丙戊酸钠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odium valproat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矩形 13"/>
          <p:cNvSpPr/>
          <p:nvPr/>
        </p:nvSpPr>
        <p:spPr>
          <a:xfrm>
            <a:off x="835200" y="5516640"/>
            <a:ext cx="79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广谱抗癫痫药物，对各型癫痫均有不同程度的疗效，尤其对大发作、局限性发作、失神发作和肌阵挛发作效果较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F9EA9-89F9-40E4-801B-02CD55181612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抗癫痫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矩形 2"/>
          <p:cNvSpPr/>
          <p:nvPr/>
        </p:nvSpPr>
        <p:spPr>
          <a:xfrm>
            <a:off x="696600" y="1628640"/>
            <a:ext cx="36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苯二氮䓬类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nzodiazepine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324000" y="2276640"/>
            <a:ext cx="86868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地西泮（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iazepam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）：控制癫痫持续状态的首选药物。静脉注射见效快，安全性较大。由于静脉注射维持药效时间不长，应配合肌注苯巴比妥维持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硝西泮（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nitrazepam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）：对肌阵挛性癫痫、不典型小发作和婴儿痉挛有较好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氯硝西泮（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clonazepam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）：具有高度脂溶性，宜透过血脑屏障。对各型癫痫均有效，尤其是失神小发作、婴儿痉挛、肌阵挛发作为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灯片编号占位符 6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87F6E-5BEA-473F-BDFF-47D9AF58C9BC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药物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270000" y="1413000"/>
            <a:ext cx="864216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依据发作类型选择药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发作类型诊断不准，选药不当是治疗失败的重要原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用药方案的制定和执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①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尽量采用单一药物治疗，以减少药物相互作用、减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AD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并易于评定疗效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②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从小剂量开始，逐渐增量。一般抗癫痫药物的治疗指数较低，临床应配合血药浓度监测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③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换药原则：新药加量、老药减量交替过渡撤换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④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停药原则：逐渐减量，剂量越大、撤药时间越长，一般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年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密切注意不良反应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定期随访，应测查血、肝、肾功能以及神经系统症状和认知功能，判定药效和有无毒性反应，作出个体化剂量调整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孕妇用药问题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药物致畸问题、癫痫反复发作对胎儿的影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5F4BA-D4B1-4898-90A5-AEE5A4C21FC4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304920" y="137160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掌握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苯妥英钠抗癫痫的作用、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熟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抗癫痫药注意事项和常用抗癫痫药的选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了解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癫痫的主要临床分型与临床特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4B506-475B-4FCE-B0FE-2960D81B6B81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分型与药物选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08000" y="1195560"/>
          <a:ext cx="8915400" cy="5329080"/>
        </p:xfrm>
        <a:graphic>
          <a:graphicData uri="http://schemas.openxmlformats.org/drawingml/2006/table">
            <a:tbl>
              <a:tblPr/>
              <a:tblGrid>
                <a:gridCol w="1832040"/>
                <a:gridCol w="2049480"/>
                <a:gridCol w="2624040"/>
                <a:gridCol w="240984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大  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亚  类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具体表现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选择药物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0404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局限性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局部开始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单纯部分性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局灶性癫痫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运动性发作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2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感觉性发作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3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植物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N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性发作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4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精神性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卡马西平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妥英钠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巴比妥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扑米酮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丙戊酸钠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31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复杂部分性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颞叶癫痫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1 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意识障碍起病者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精神运动性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2 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继发于单纯部分性发作的意识障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同上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2192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全身性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非局部开始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强直阵挛大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同上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失神小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乙琥胺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 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二氮卓类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丙戊酸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肌阵挛发作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无张力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丙戊酸钠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二氮卓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967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未能分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婴儿痉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ACTH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糖皮质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癫痫持续状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地西泮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巴比妥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8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05492-6B3B-438A-85DF-39C296970E26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抗惊厥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矩形 2"/>
          <p:cNvSpPr/>
          <p:nvPr/>
        </p:nvSpPr>
        <p:spPr>
          <a:xfrm>
            <a:off x="2823840" y="1035000"/>
            <a:ext cx="36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硫酸镁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agnesium sulfat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矩形 4"/>
          <p:cNvSpPr/>
          <p:nvPr/>
        </p:nvSpPr>
        <p:spPr>
          <a:xfrm>
            <a:off x="761400" y="1722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矩形 5"/>
          <p:cNvSpPr/>
          <p:nvPr/>
        </p:nvSpPr>
        <p:spPr>
          <a:xfrm>
            <a:off x="179280" y="2227320"/>
            <a:ext cx="87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钙离子化学性质相近，可竞争性的拮抗钙离子结合位点，从而抑制神经化学传递和骨骼肌收缩中钙离子的作用，也可以直接作用于中枢，引起感觉和意识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矩形 6"/>
          <p:cNvSpPr/>
          <p:nvPr/>
        </p:nvSpPr>
        <p:spPr>
          <a:xfrm>
            <a:off x="761400" y="3954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196920" y="4549680"/>
            <a:ext cx="85201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主要用于缓解子痫、破伤风等惊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高浓度镁离子具有心肌抑制和扩张血管的作用，故也可用于高血压危象。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灯片编号占位符 8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19C2B-EBE9-4753-B359-A7731DB7D66B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抗惊厥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矩形 2"/>
          <p:cNvSpPr/>
          <p:nvPr/>
        </p:nvSpPr>
        <p:spPr>
          <a:xfrm>
            <a:off x="2823840" y="1035000"/>
            <a:ext cx="36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硫酸镁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agnesium sulfat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矩形 4"/>
          <p:cNvSpPr/>
          <p:nvPr/>
        </p:nvSpPr>
        <p:spPr>
          <a:xfrm>
            <a:off x="1376640" y="1722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和禁忌证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矩形 5"/>
          <p:cNvSpPr/>
          <p:nvPr/>
        </p:nvSpPr>
        <p:spPr>
          <a:xfrm>
            <a:off x="179280" y="22273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钙离子化学性质相近，可竞争性的拮抗钙离子结合位点，从而抑制神经化学传递和骨骼肌收缩中钙离子的作用，也可以直接作用于中枢，引起感觉和意识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矩形 6"/>
          <p:cNvSpPr/>
          <p:nvPr/>
        </p:nvSpPr>
        <p:spPr>
          <a:xfrm>
            <a:off x="761400" y="3954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196920" y="4549680"/>
            <a:ext cx="85201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主要用于缓解子痫、破伤风等惊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高浓度镁离子具有心肌抑制和扩张血管的作用，故也可用于高血压危象。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控制好用药剂量、浓度及滴注速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灯片编号占位符 3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CFEC0-6CC0-499E-8E77-CD6D4878993C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圆角矩形 3"/>
          <p:cNvSpPr/>
          <p:nvPr/>
        </p:nvSpPr>
        <p:spPr>
          <a:xfrm>
            <a:off x="395280" y="1488960"/>
            <a:ext cx="8319960" cy="35146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患者，女性，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16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岁，高中生，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天前患者于学校上课时突然大叫一声，四肢抽搐，双眼上翻且口吐白沫，急诊入院。入院后查脑电图示“癫痫样放电”，初步诊断为“癫痫大发作”，医嘱给予苯妥英钠，口服，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Bid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。抽搐未能控制，住院期间癫痫发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次。于入院后第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11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天出现高热，伴全身性皮疹。医嘱继续给予苯妥英钠（剂量同前），加服苯巴比妥。抽搐得到有效控制。住院后，患者逐渐认识到癫痫是一种慢性病、需要长期服药治疗、症状控制不好会再发作，因此产生严重的心理负担，变得内向、寡言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剪去单角的矩形 6"/>
          <p:cNvSpPr/>
          <p:nvPr/>
        </p:nvSpPr>
        <p:spPr>
          <a:xfrm>
            <a:off x="428760" y="5157720"/>
            <a:ext cx="8286480" cy="12956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（</a:t>
            </a:r>
            <a:r>
              <a:rPr b="0" lang="en-US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1</a:t>
            </a: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）苯妥英钠治疗癫痫的作用机制及其不良反应。加用苯巴比妥的原因及其注意事项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（</a:t>
            </a:r>
            <a:r>
              <a:rPr b="0" lang="en-US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2</a:t>
            </a: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）针对该患者的疾病和心理状态，药疗监护应注意的事项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灯片编号占位符 1"/>
          <p:cNvSpPr/>
          <p:nvPr/>
        </p:nvSpPr>
        <p:spPr>
          <a:xfrm>
            <a:off x="3505320" y="6576840"/>
            <a:ext cx="21333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1E121-155E-48C1-AC18-DC82B5240019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癫痫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(Epilepsy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324000" y="2305080"/>
            <a:ext cx="3822480" cy="360036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3"/>
          <p:cNvSpPr/>
          <p:nvPr/>
        </p:nvSpPr>
        <p:spPr>
          <a:xfrm>
            <a:off x="4348080" y="1916280"/>
            <a:ext cx="45673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类由于脑局部病灶神经元异常高频放电、并向周围组织扩散引起的大脑功能失调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具有突发性、短暂性和反复发作的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表现为运动、感觉、意识和自主神经功能等多种异常，并伴有脑电图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灯片编号占位符 8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AB262-68F7-40AB-8D6A-C76B2EE226DD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简单分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50920" y="1916280"/>
            <a:ext cx="84978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部分性发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包括单纯部分性发作（局限性发作，不伴有意识障碍）和精神运动性发作（复杂部分性发作，伴有意识障碍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全面性发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包括失神发作（小发作，主要以意识障碍起病）和强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阵挛性发作（大发作，以意识障碍和全身抽搐为主要特征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4BA74-9FF7-4446-9ECD-C3D7D17BB271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药物治疗环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179280" y="1989000"/>
            <a:ext cx="8686800" cy="46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抑制病灶神经元过度放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作用于病灶周围正常神经组织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遏制异常放电的扩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苯妥因钠、卡马西平、乙琥胺等干扰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Na</a:t>
            </a:r>
            <a:r>
              <a:rPr b="0" lang="en-US" sz="2000" spc="-1" strike="noStrike" baseline="30000">
                <a:solidFill>
                  <a:srgbClr val="0d0d0d"/>
                </a:solidFill>
                <a:latin typeface="Times New Roman"/>
                <a:ea typeface="黑体"/>
              </a:rPr>
              <a:t>+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、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Ca</a:t>
            </a:r>
            <a:r>
              <a:rPr b="0" lang="en-US" sz="2000" spc="-1" strike="noStrike" baseline="30000">
                <a:solidFill>
                  <a:srgbClr val="0d0d0d"/>
                </a:solidFill>
                <a:latin typeface="Times New Roman"/>
                <a:ea typeface="黑体"/>
              </a:rPr>
              <a:t>2+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、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K</a:t>
            </a:r>
            <a:r>
              <a:rPr b="0" lang="en-US" sz="2000" spc="-1" strike="noStrike" baseline="30000">
                <a:solidFill>
                  <a:srgbClr val="0d0d0d"/>
                </a:solidFill>
                <a:latin typeface="Times New Roman"/>
                <a:ea typeface="黑体"/>
              </a:rPr>
              <a:t>+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等阳离子通道，膜稳定作用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增强脑内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γ-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氨基丁酸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(GABA)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介导的抑制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苯二氮卓类、苯巴比妥类增加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GABA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释放；丙戊酸等抑制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GABA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分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抑制兴奋性递质（谷氨酸、天冬氨酸）的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AMPA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、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NMDA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受体的拮抗剂、托吡酯等减少兴奋性递质的释放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7E0B5-4998-489D-96D3-FA37FA34D7F2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矩形 3"/>
          <p:cNvSpPr/>
          <p:nvPr/>
        </p:nvSpPr>
        <p:spPr>
          <a:xfrm>
            <a:off x="395280" y="213372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降低细胞膜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通透性，抑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内流，从而降低神经细胞细胞膜的兴奋性，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阻滞癫痫病灶异常放电向周围正常脑组织的扩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6"/>
          <p:cNvSpPr/>
          <p:nvPr/>
        </p:nvSpPr>
        <p:spPr>
          <a:xfrm>
            <a:off x="747000" y="3716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457200" y="4221000"/>
            <a:ext cx="84582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抗癫痫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：苯妥英钠是治疗强直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阵挛性发作（大发作）的首选药，对单纯部分发作、复杂部分发作均有效，对失神小发作无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治疗外周神经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抗心律失常（见第十七章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AB354-134D-4D01-A4CB-0676D3AD5BAD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体内过程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矩形 6"/>
          <p:cNvSpPr/>
          <p:nvPr/>
        </p:nvSpPr>
        <p:spPr>
          <a:xfrm>
            <a:off x="346680" y="36878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用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79280" y="2039760"/>
            <a:ext cx="86868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为碱性药，刺激性大，不宜肌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口服吸收慢而不规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高于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10 μg/ml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时，血浆</a:t>
            </a:r>
            <a:r>
              <a:rPr b="0" i="1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t</a:t>
            </a:r>
            <a:r>
              <a:rPr b="0" lang="en-US" sz="2400" spc="-1" strike="noStrike" baseline="-25000">
                <a:solidFill>
                  <a:srgbClr val="0d0d0d"/>
                </a:solidFill>
                <a:latin typeface="Times New Roman"/>
                <a:ea typeface="黑体"/>
              </a:rPr>
              <a:t>1/2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延至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20~60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小时，易引起蓄积中毒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矩形 4"/>
          <p:cNvSpPr/>
          <p:nvPr/>
        </p:nvSpPr>
        <p:spPr>
          <a:xfrm>
            <a:off x="219240" y="4221000"/>
            <a:ext cx="86468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从小剂量开始，逐渐增加剂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口服一般用量为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100~200 mg/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次，每日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2~3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次，不宜超过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400 mg/d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因其治疗量和中毒量接近，故容易出现中毒反应，需严密监测血药浓度，观察中毒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灯片编号占位符 1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B6A9C-4194-46E5-8638-C0127849E916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179280" y="2133720"/>
            <a:ext cx="86868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局部刺激：厌食、恶心、呕吐和腹痛等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齿龈增生：长期应用可引起齿龈增生，多见于青少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神经系统反应：多见头晕，剂量过大引起中毒则可出现眼球震颤、复视、眩晕、共济失调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血液系统：巨幼红细胞性贫血，偶见粒细胞、血小板减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骨骼系统反应：低钙血症、佝偻病样改变和骨软化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可见皮疹、血小板减少、粒细胞缺乏、再生障碍性贫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其他：致畸胎，故孕妇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269C4-104B-4704-BCD9-C953A30E8435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10:30:32Z</dcterms:modified>
  <cp:revision>5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